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D887F6-225E-4047-8ECD-100998DED1D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974EF3-B692-4E28-A356-622AEAA28E8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ere is a simple organization of what the different parts of the expectation might b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945077B-B62C-4BE0-933A-FB7433A5200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S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 were designed around the theories of Problem-based curr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8E4F9F1-F1F2-43A4-AF16-1DF8A1463C2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view the purpose of the STS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CAD60F-9249-4658-8E21-0FECEF5D01F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text is important, we bring a different prior knowledge into starting the con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ere and how you introduce the context is important to students and how the task is started and developed therefore what is the implication for this in STS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 piece of the curricul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FED8F1F-B223-4F8A-97A5-11DBABF3A17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alk about how the STS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 are designed and how the sample issues and questions are there for the jumping off point but are just like examples and not manda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lso talk about how most of the STS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 have an environmental focus to lead to thinking about their impact on the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71FDFDD-4D85-463A-995F-5BE33FCC8A9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ing this expectation, I have deconstructed it to show what areas I need to focus on and what some of the skills are to teach the students so that they can attain the expec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AD9-DA20-4D64-AA6B-19855A87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D95-4C93-4E6A-AE0C-8159EA78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923-1147-4AA8-9B3A-A02903EE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5DE-19AD-420D-9A60-5CF677C8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BF9-D086-49F4-A109-74C123A7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A2B-7F6D-4030-83A6-CF49DBA7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E01-BA98-40B8-894B-1F2126C7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BF1-F648-4B3C-9A2B-93FC6B4A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CCD-3C3A-4D8A-9C76-BFED5BC3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211-F8ED-4B92-B5FF-1161A010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E662-DC59-40E8-A034-F44B021E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D9CC-3E1C-4CF3-B8E0-053E122B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03640" y="5516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81E2-8BFB-4AA3-B666-C16CF3DFFB6A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5883120"/>
            <a:ext cx="9144000" cy="97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710B-B091-4013-8F10-5367A8E20A7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258920" y="342900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000000"/>
                </a:solidFill>
                <a:latin typeface="Arial"/>
              </a:rPr>
              <a:t>Science Grades  9-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428D-9143-470F-B010-C046730A2CA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>
            <a:off x="684360" y="1844640"/>
            <a:ext cx="1798560" cy="15447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opose a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4596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Deconstruction Templ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1988640"/>
            <a:ext cx="7921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604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44604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"/>
          <p:cNvSpPr/>
          <p:nvPr/>
        </p:nvSpPr>
        <p:spPr>
          <a:xfrm>
            <a:off x="3348000" y="2997360"/>
            <a:ext cx="2376360" cy="1582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564000" y="350028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Bodoni"/>
              </a:rPr>
              <a:t>S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6372360" y="1989000"/>
            <a:ext cx="1798560" cy="15447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itiativ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971640" y="1916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Bodoni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6516720" y="2205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Bodoni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684360" y="4149720"/>
            <a:ext cx="2016000" cy="15447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ssues of climat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900000" y="429264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Bodon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1"/>
          <p:cNvSpPr/>
          <p:nvPr/>
        </p:nvSpPr>
        <p:spPr>
          <a:xfrm>
            <a:off x="6516720" y="4005360"/>
            <a:ext cx="1798560" cy="154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ffectiveness of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6804000" y="407664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Bodoni"/>
              </a:rPr>
              <a:t>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4"/>
          <p:cNvSpPr/>
          <p:nvPr/>
        </p:nvSpPr>
        <p:spPr>
          <a:xfrm>
            <a:off x="2627280" y="3141720"/>
            <a:ext cx="719280" cy="398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5"/>
          <p:cNvSpPr/>
          <p:nvPr/>
        </p:nvSpPr>
        <p:spPr>
          <a:xfrm>
            <a:off x="5651640" y="4221000"/>
            <a:ext cx="718920" cy="398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6"/>
          <p:cNvSpPr/>
          <p:nvPr/>
        </p:nvSpPr>
        <p:spPr>
          <a:xfrm flipV="1">
            <a:off x="2843280" y="4436640"/>
            <a:ext cx="647640" cy="405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7"/>
          <p:cNvSpPr/>
          <p:nvPr/>
        </p:nvSpPr>
        <p:spPr>
          <a:xfrm flipV="1">
            <a:off x="5724360" y="3141720"/>
            <a:ext cx="648000" cy="404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7429-20A5-44FF-B8D1-DF8D9F7E8D2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Deconstructing STSE</a:t>
            </a: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In your subject group pick any overall or a specific STSE expec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Using the deconstructing template, place the expectation in the middle and brainstorm the different parts of the expect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MPj04394230000[1]"/>
          <p:cNvPicPr/>
          <p:nvPr/>
        </p:nvPicPr>
        <p:blipFill>
          <a:blip r:embed="rId1"/>
          <a:stretch/>
        </p:blipFill>
        <p:spPr>
          <a:xfrm>
            <a:off x="7451640" y="472428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8268-C868-42EF-877B-BF6A083469C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Agenda- STSE</a:t>
            </a: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Purpose of the STS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Teaching using the STS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394D-9AC2-43D0-AD83-BD083015D5D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earning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rticipants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reate a STSE deconstruction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1B7C-A42A-42C4-80E4-C663D834C8A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evelopment of STS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udents are presented with a specific practical, real, or hypothetical problem (or set of problems) to solve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blems are defined as having no specific correct solution, requiring knowledge construction on the part of the students, and requiring sustained attention beyond a single lesson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roblems as Possibilities: Problem-Based Learning for K-16 Education; AS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CACD-8792-47F4-B60A-43CFFD80BB7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Purpose of STSE</a:t>
            </a: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gage students in examining a variety of current world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ound scientific knowledge  in the realities of these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able students to develop a deep understanding of the connections between science, technology, society and the enviro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velop studen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bilities to make informed decisions, and to take responsible action to address issues arising from the impact of science and technology on the environment and in their daily l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53D7-389E-4AAD-BF1C-BC9D2ADDDC64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STSE</a:t>
            </a: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s Are Designed 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Set the context for learning for each grade level and subje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Apply previously acquired knowledge and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20BD-56C0-4F1D-AD39-5A53ED8C55E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Structure of the STSE</a:t>
            </a: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167000" cy="46818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5"/>
          <p:cNvSpPr/>
          <p:nvPr/>
        </p:nvSpPr>
        <p:spPr>
          <a:xfrm>
            <a:off x="6948360" y="2060640"/>
            <a:ext cx="1656000" cy="792000"/>
          </a:xfrm>
          <a:prstGeom prst="wedgeRoundRectCallout">
            <a:avLst>
              <a:gd name="adj1" fmla="val -109731"/>
              <a:gd name="adj2" fmla="val 199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pecific Expec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6659640" y="3213000"/>
            <a:ext cx="2016000" cy="792360"/>
          </a:xfrm>
          <a:prstGeom prst="wedgeRoundRectCallout">
            <a:avLst>
              <a:gd name="adj1" fmla="val -76930"/>
              <a:gd name="adj2" fmla="val -5320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road Areas of Skills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395280" y="2205000"/>
            <a:ext cx="1368360" cy="792360"/>
          </a:xfrm>
          <a:prstGeom prst="wedgeRoundRectCallout">
            <a:avLst>
              <a:gd name="adj1" fmla="val 116356"/>
              <a:gd name="adj2" fmla="val 1087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ampl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684360" y="4365720"/>
            <a:ext cx="1511280" cy="718920"/>
          </a:xfrm>
          <a:prstGeom prst="wedgeRoundRectCallout">
            <a:avLst>
              <a:gd name="adj1" fmla="val 78569"/>
              <a:gd name="adj2" fmla="val -30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ampl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47F5-A823-45FF-AA3D-717DEA59B3F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at to do with STS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197000"/>
          <a:ext cx="8229600" cy="4329000"/>
        </p:xfrm>
        <a:graphic>
          <a:graphicData uri="http://schemas.openxmlformats.org/drawingml/2006/table">
            <a:tbl>
              <a:tblPr/>
              <a:tblGrid>
                <a:gridCol w="1008000"/>
                <a:gridCol w="7221600"/>
              </a:tblGrid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the context using the STS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e a question or issue to ans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 2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 and acquire the knowledge and skills to help answer the question or is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a portfolio, journal, notebook as information to answer question or iss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minating 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the question or issue based on knowledge and skills gather throughout the 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6"/>
          <p:cNvSpPr/>
          <p:nvPr/>
        </p:nvSpPr>
        <p:spPr>
          <a:xfrm>
            <a:off x="6804000" y="5516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16B8-A1FF-47E8-984A-747E60B6198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Deconstructed ST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002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Relating Science to Technology, Society and th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808080"/>
                </a:solidFill>
                <a:latin typeface="Arial"/>
              </a:rPr>
              <a:t>D1.2 assess, </a:t>
            </a:r>
            <a:r>
              <a:rPr b="0" lang="en-CA" sz="2400" spc="-1" strike="noStrike">
                <a:solidFill>
                  <a:srgbClr val="ff3300"/>
                </a:solidFill>
                <a:latin typeface="Arial"/>
              </a:rPr>
              <a:t>on the basis of research</a:t>
            </a:r>
            <a:r>
              <a:rPr b="0" lang="en-CA" sz="2400" spc="-1" strike="noStrike">
                <a:solidFill>
                  <a:srgbClr val="fea0ec"/>
                </a:solidFill>
                <a:latin typeface="Arial"/>
              </a:rPr>
              <a:t>,</a:t>
            </a:r>
            <a:r>
              <a:rPr b="0" lang="en-CA" sz="2400" spc="-1" strike="noStrike">
                <a:solidFill>
                  <a:srgbClr val="808080"/>
                </a:solidFill>
                <a:latin typeface="Arial"/>
              </a:rPr>
              <a:t> the effectiveness of some current individual, regional, national, or international initiatives that address the </a:t>
            </a:r>
            <a:r>
              <a:rPr b="0" lang="en-CA" sz="2400" spc="-1" strike="noStrike">
                <a:solidFill>
                  <a:srgbClr val="ff3300"/>
                </a:solidFill>
                <a:latin typeface="Arial"/>
              </a:rPr>
              <a:t>issues of climate change</a:t>
            </a:r>
            <a:r>
              <a:rPr b="0" lang="en-CA" sz="2400" spc="-1" strike="noStrike">
                <a:solidFill>
                  <a:srgbClr val="808080"/>
                </a:solidFill>
                <a:latin typeface="Arial"/>
              </a:rPr>
              <a:t> (e.g., Drive Clean, ENERGY STAR, federal and provincial government rebates for retrofitting older buildings to be more energy efficient, carbon offset programs, community tree-planting programs, municipal recycling programs, Intergovernmental Panel on Climate Change [IPCC]), and </a:t>
            </a:r>
            <a:r>
              <a:rPr b="0" lang="en-CA" sz="2400" spc="-1" strike="noStrike">
                <a:solidFill>
                  <a:srgbClr val="ff3300"/>
                </a:solidFill>
                <a:latin typeface="Arial"/>
              </a:rPr>
              <a:t>propose a further course of action related to one of these initiatives</a:t>
            </a:r>
            <a:r>
              <a:rPr b="0" lang="en-CA" sz="2400" spc="-1" strike="noStrike">
                <a:solidFill>
                  <a:srgbClr val="808080"/>
                </a:solidFill>
                <a:latin typeface="Arial"/>
              </a:rPr>
              <a:t> [PR, AI, 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3:32:11Z</dcterms:created>
  <dc:creator>Jill Snider</dc:creator>
  <dc:description/>
  <dc:language>en-US</dc:language>
  <cp:lastModifiedBy>Cheryl Madeira</cp:lastModifiedBy>
  <dcterms:modified xsi:type="dcterms:W3CDTF">2011-12-06T14:31:03Z</dcterms:modified>
  <cp:revision>174</cp:revision>
  <dc:subject/>
  <dc:title>Slide 1</dc:title>
</cp:coreProperties>
</file>